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2B2-A7DB-4817-B67A-BDDD1F1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EEA-6643-4113-8621-E587F84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95B-FCE0-454A-ACFA-1F5076FE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531-030E-4696-92A5-4D9DB719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FFA-9DA4-43CD-86DE-97082AF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75C-6406-4338-83E1-FECC3F20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274-DAE7-4F9A-BBE4-F05D4035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CD2-CCF4-46E0-8680-1251ED8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8F0-5075-4E39-9ABA-2C9257BB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3B4-E07B-411C-AC02-79BA621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709-2C92-4779-BF3C-6E67485A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B38-311A-4525-946B-8976CC2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3145-F347-4EA4-8960-C9FDC3EE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hp?hl=ru" TargetMode="External"/><Relationship Id="rId2" Type="http://schemas.openxmlformats.org/officeDocument/2006/relationships/hyperlink" Target="http://www.google.com/imghp?hl=ru" TargetMode="External"/><Relationship Id="rId3" Type="http://schemas.openxmlformats.org/officeDocument/2006/relationships/hyperlink" Target="http://www.google.com/imghp?hl=ru" TargetMode="External"/><Relationship Id="rId4" Type="http://schemas.openxmlformats.org/officeDocument/2006/relationships/hyperlink" Target="http://www.google.com/imghp?hl=ru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14560" y="3000240"/>
            <a:ext cx="5329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ие органы страдают у человека от алког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3357360" cy="471024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ияние алкоголя на внутренние органы чело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3"/>
          <p:cNvPicPr/>
          <p:nvPr/>
        </p:nvPicPr>
        <p:blipFill>
          <a:blip r:embed="rId1"/>
          <a:stretch/>
        </p:blipFill>
        <p:spPr>
          <a:xfrm>
            <a:off x="785880" y="2249640"/>
            <a:ext cx="75769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2"/>
          <p:cNvPicPr/>
          <p:nvPr/>
        </p:nvPicPr>
        <p:blipFill>
          <a:blip r:embed="rId1"/>
          <a:stretch/>
        </p:blipFill>
        <p:spPr>
          <a:xfrm>
            <a:off x="2944800" y="1384200"/>
            <a:ext cx="3254400" cy="223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37"/>
          <p:cNvPicPr/>
          <p:nvPr/>
        </p:nvPicPr>
        <p:blipFill>
          <a:blip r:embed="rId2"/>
          <a:stretch/>
        </p:blipFill>
        <p:spPr>
          <a:xfrm>
            <a:off x="669960" y="3687840"/>
            <a:ext cx="78343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ч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6"/>
          <p:cNvPicPr/>
          <p:nvPr/>
        </p:nvPicPr>
        <p:blipFill>
          <a:blip r:embed="rId1"/>
          <a:stretch/>
        </p:blipFill>
        <p:spPr>
          <a:xfrm>
            <a:off x="1285920" y="1889280"/>
            <a:ext cx="6480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материалы из коллекции картино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www.google.com/imghp?hl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2:32:20Z</dcterms:created>
  <dc:creator>Admin</dc:creator>
  <dc:description/>
  <dc:language>en-US</dc:language>
  <cp:lastModifiedBy>Adel</cp:lastModifiedBy>
  <dcterms:modified xsi:type="dcterms:W3CDTF">2014-07-28T11:35:37Z</dcterms:modified>
  <cp:revision>41</cp:revision>
  <dc:subject/>
  <dc:title>К чему тебя приведет кружка пива?</dc:title>
</cp:coreProperties>
</file>